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B91-C520-45AD-83DA-5542F6F1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BC2-4C50-4FD4-A537-D69B0774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56F-0C45-46FD-9FCF-95CB582D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0A3-779C-41DC-A8EF-C8C272A8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E1CE-5107-4304-8F6A-6E7AEA88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52A3-A3E8-4104-9CE0-D9DAD3A8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A28D-85C8-40F0-B322-4AD5302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75FD-D915-486C-A633-14789CAA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FCA4-C413-4644-A469-21E27CC0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4219-5FE2-4FEA-AB71-A98E8D58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0F6C-216F-4523-9874-BA195483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689-8B29-4CEA-89FF-2FB418F7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BD8C-B737-46EF-8D44-FF05981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9004-A799-4BD7-8651-D03C2C2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CCBB-02BC-4991-8F2C-B2921EBC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C730-1913-4BDE-A9C0-5F5D4D7A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7E2B-9A3C-4AE2-B7E4-69A14A0B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72C4-51BD-4563-9AA0-E49C9290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6160-24DE-4C8B-9BAC-D0B6B591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F7A4-D5BD-41B9-BE7B-A081D9AD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D4B1-CE0F-4FA1-B683-B8AA89FC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109CC-2F3D-4191-92BD-750E5CE8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D5F-E61A-45B5-AF8B-57C75D6F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ED2F-9C28-4E3C-9141-EF142C40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4E13-7EA0-4369-9F86-909478E8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91F8-1DDF-4FE8-A1F3-B73CD06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F962-86AA-45FB-AC0A-2C39313E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20DA-90B5-4A95-81E6-1DC3F33D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8C72-7929-4F71-A53E-BF761F6A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5F86-38D1-4F93-B969-9B719909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BF29-17DB-479F-AA30-E1EED2D4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38AD-BBF3-4EF0-95BA-A92BCB17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509CD-918A-49B9-A1FC-E375322A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747-9A16-47D1-B1F1-F64B9386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6D07-6E05-44B4-A201-8FC35C59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233E-D94F-4527-B114-90C16813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C23B-0885-4A7E-ACDD-B8BC80FD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1AD86-F745-41C1-83A9-6C25CD41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C93E-CEA4-408B-AEFF-7AA00B13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DE05-73E8-411B-ABBC-FB1F3EEF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7C675-EEEA-4C28-8785-7C79114F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C3462-DE1F-4637-B12E-4B797741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D5AA-D28D-4E9D-9C37-BE4FB379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CA5-1D7B-43DD-BEA1-E6AF6D4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1ED-913A-42C2-BE78-F6BD19EB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942-52C6-422A-A562-EF745541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138-D34F-40CE-833C-35325462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6F6-ED14-4647-960C-22BC248E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CE8E-FDEC-4F4B-AE34-0F747AA39D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3A54-785A-449C-92DA-841BF7A6709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27B2-A6FC-4652-BCA0-B30E1F9BEBB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F3C9-D7F3-46C0-8753-6D297B49348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tcan.ca/english/Subjects/tabcon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Chapter 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MR1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Characteristics of Organizational Buyers (3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buying objective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organizations are ver rational and specific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ormal objective is to reduce cost while maximizing prof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haracteristics of Organizational Buyers (4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Buying Criteria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is very well known and adhered to by organiz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Operates within the minimum cost/maximum revenue framework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Common criteria include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delivery tim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technical cap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warrant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past performan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production facilities &amp; capac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haracteristics of Organizational Buyers (5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ize of the orde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organizational buyers make is usually lar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Walmart buys 5000 pairs of shoes from Terra Shoes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You (a consumer) buy only one pair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haracteristics of Organizational Buyers (6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Buyer and Seller usually are involved in extensive negotiation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efore doing a de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re must be a good relationship between the two par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fter there is a reciprocal relationship where a buyer buys from a supplier and in return sells to that supplier.  This is known a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Reciprocity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haracteristics of Organizational Buyers (7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ften times in large organizations there is a specific department responsible for all of the organizations purchases.  This is th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Buying Cent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oles in the Buying Cent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nstantia"/>
              </a:rPr>
              <a:t>Users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- use the product being purchase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nstantia"/>
              </a:rPr>
              <a:t>Influencers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- affect the buying decision in some wa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nstantia"/>
              </a:rPr>
              <a:t>Buyer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s -have the formal authority to buy products on behalf of the organizatio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nstantia"/>
              </a:rPr>
              <a:t>Deciders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- formal &amp; informal authority to approve purchas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nstantia"/>
              </a:rPr>
              <a:t>Gatekeepers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- may have no formal authority but control the flow of informatio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Stages on the Organizational Buying Deci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e that the stages in the org. buying decision are the same as the consumer purchase deci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only difference is in the type and degree of analysis of information in the decision making proc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asic Types of Buying Situ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traight rebu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ame product repurchased from a existing supplier - little effort in decision making - often an automatic decision - very limited risk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odifyed rebu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slight modification is made to what otherwise would be a standard rebuy.  More analysis involved in the decision - medium risk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ew bu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first time buy - a great deal of analysis involved in the decision - a great deal of risk to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Keys to Marketing more Effectively towards Organizational Buy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Understand the buyers/sellers needs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and meet th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Get on the bidders list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so that you are eligible to sell to an organiz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Contact the right people in the buying center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who have the authority to buy from you or the power to influence the decision to buy from you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rovide a quality product and service - keep your promises -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aximize value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to the custom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Video(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hallanger: An industrial Romance - NFB, 198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hallanger promo video - Bombardier Inc., 19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Questions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ow did Canadair market the Callanger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ow did the Challanger offer value to its customers/owners.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Organizational Markets Defin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Organizational Markets a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Organizations that buy products and servi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for either their own use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or to use in a product that they make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or to resell to individuals, or other organizations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or to provide a public good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The Three Organizational Markets (1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Industrial Mar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These organizations buy the product and in some way reprocess it before reselling it to the next buyer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E.g. Stelco sells rolled steel to GM, GM stamps it into a body part for the Venture minivan, which is in-turn sold to you through your GM deal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The Three Organizational Markets (2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Reseller Mar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The organization buys the product and then resells it relatively unchanged. (no reprocessing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E.g. Sobey’s will buy milk from Central Dairies.  Sobey’s resells the milk to custom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The Three Organizational Markets (3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Government Mar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Federal, Provincial and Municipal governments purchase products and services and use them for their constituent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E.g. The town of Buchans buys a new Cat 930 loader.  (The Town taxpayers will be paying for this unit). That machine is fitted with a snowblade and used to plough the towns roads (a public service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Getting Industrial Buyers and Sellers Together - The NAICS (SIC Code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00320"/>
            <a:ext cx="82296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ee </a:t>
            </a:r>
            <a:r>
              <a:rPr b="0" lang="en-GB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statcan.ca/english/Subjects/Standard/tabcon.ht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Standard Industrial Classification system, now updated and called NAICS (North American Industrial Classification System), is designed to connect buyers and sell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Uses a Coding system so that  a particular type of business gets a particular cod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Facilitates buyer seller recognition and communic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limitations of the Industrial Cod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wo key limita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de is not issued to a business if they are the only one of that type of business in a given region.  This company is then not coded and will not reep the intended benefits of the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nly one code is issued per business.  If your business is in more than one business only one of the businesses types are reflected in the cod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Characteristics of Organizational Buyers (1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Demand for their products by other organizations is derived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from consumer demand for end products. E.g Stelco will not sell a much steel to GM if consumer demand for cars dro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Characteristics of Organizational Buyers (2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re are fewer organizational buyer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n there are end consumer buy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.g.  There are 30 million people in Canada -- all potential buyers.  However there are fewer organizations in the marketplace -- fewer organizational buy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17:15:48Z</dcterms:created>
  <dc:creator>Debbie Vincent</dc:creator>
  <dc:description/>
  <dc:language>en-US</dc:language>
  <cp:lastModifiedBy>paul.tilley</cp:lastModifiedBy>
  <dcterms:modified xsi:type="dcterms:W3CDTF">2011-03-24T13:35:07Z</dcterms:modified>
  <cp:revision>8</cp:revision>
  <dc:subject/>
  <dc:title>Organizational Marke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